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E2AE-C1D1-404D-9F80-1F25DDD5E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RL doesn’t just exist by itself.” Possible pear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tage for the EL component, multiple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uistic forms are semantic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ry forms are stored as mental pictures, or physical sen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s the question, ‘As familiar as we are with nonlinguistic forms Are we using nonlinguistic forms as much we could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 as coaches is to foster/promote these types of instructional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NLR tools are applicable in a wide variety of mediums: EL instruction, whole class instruction, multiple instru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looking at the benefit of this  instructional technique through somewhat of an artificial lens.  Several inter-related factors combine to create excellent pedagogy.  We need to be thoughtful in ou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AA5-8076-4C24-B671-CFBBA5D8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4EB-792D-4773-8B38-20EA8B04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E35-1690-4AFB-B6B0-C5D3C9F9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800-B785-4814-AE15-F4F7A843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C351-1D41-4033-BE2D-2212B72D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BF2-9C9E-46BB-B3CA-B1586911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64F-FC52-4908-A18B-3D49685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B41-82D1-48A3-8DD3-011353E8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19B-AA57-46D0-9EC4-13E99432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D12-A13F-48E4-B997-9BAEC75B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03B-75A6-4606-8449-3C1473C6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5BF-0969-480F-9564-20089C0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F090-0ACB-4643-A71B-D988EBFFA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ed from Marzano….b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Coaches, Reading Coaches, Learning Coordi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linguistic Representation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52" name="_s3130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0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29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8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128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85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127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1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26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083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125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0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s stored two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nguistic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r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has been called “dual-co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ee Paivio, 1969, 1971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dea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we use both systems of representation -- linguistic and non-linguistic -- the better we are able to recall knowledge.” (pg 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ls of Wis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st seems so perfect for EL instru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andurand &amp; Pope,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Doesn’t Tell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/how often do you have to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y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s of diff ap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52:49Z</dcterms:created>
  <dc:creator>willard.pope</dc:creator>
  <dc:description/>
  <dc:language>en-US</dc:language>
  <cp:lastModifiedBy>willard.pope</cp:lastModifiedBy>
  <dcterms:modified xsi:type="dcterms:W3CDTF">2009-02-14T19:46:39Z</dcterms:modified>
  <cp:revision>4</cp:revision>
  <dc:subject/>
  <dc:title>Nonlinguistic Representations</dc:title>
</cp:coreProperties>
</file>